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21.jpeg" ContentType="image/jpeg"/>
  <Override PartName="/ppt/media/image11.wmf" ContentType="image/x-wmf"/>
  <Override PartName="/ppt/media/image1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2.wmf" ContentType="image/x-wmf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wmf" ContentType="image/x-wmf"/>
  <Override PartName="/ppt/media/image19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2B527-936B-46C6-A143-CE7D57E66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76312-0040-48BD-8E86-EAA1DCCA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4AAB5-60BE-4908-9667-33EF8CF8B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C10EE-B0E3-49C1-8620-54B1DFFFE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EADC-CD2E-435F-9815-399CD03BB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FFD9-67FF-41FD-8A1A-A12BA7F3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2CF0-4E86-485F-B2B0-9EF7FB89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DB38-F71B-42AD-A817-F65D103B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F51C-99BF-40AB-A47E-D5A46B1E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A72C-14F0-49B0-8187-245C25AF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3FA7-4103-4B1C-AB3A-C198E6C4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5A094-02BD-4FBE-B68E-88956337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0DAF-8F0B-4DD6-966A-13603294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1453-224C-45C1-86BF-0773A48F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2C56-5667-41BA-BF1A-146D6957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2E6F-5FB9-46FA-A823-7D2C080C4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2A37-65A6-4B0F-98C3-C6599A5DE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30A5B-A909-47B3-9787-37A26474A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FA58B-2E80-41A9-8E8D-9BC1A5AC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D67CF-1F02-458E-B722-5A6C6F17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3E62D-5E8C-43CC-B960-6BBBBB0C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CDEF3-57C5-4F76-88AF-6A59FB6E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46374-4DC9-4752-8D49-F8A966B6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15B66-9501-4F09-A5DC-09C087CE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690AE-D18E-47C2-9895-47752C7F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54E7A-655E-46E3-822B-0ABB8337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E20FB-1369-4B9F-99FF-0AC7048E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B3B72-2C35-4A26-B817-092B2152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46788-6F79-4C24-8DD0-EA3553BBD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A5472-BDC7-408D-8B53-DFAF463E2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247A9-2A8B-4451-856F-C584349F9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A9B82-C5DD-4D5E-A453-2009FBF6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20F15-1555-4B98-9629-8C638564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9C02A-0399-4D57-AC69-347479B5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61B39-2A2E-4478-B42C-CA45DBCE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ED7F1-3D5E-4F75-BB36-6ABB9E1F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8E93D-1127-4985-A4ED-22E39086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01AB5-D1BC-4122-B9F7-78EE51B7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FCD39-BA79-4160-A8FD-305A5705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8C5B3-F812-42CE-93F4-94AC90EA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233AD-0532-4671-916F-54A27294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C9E99-304C-4908-BF3E-7723BD51A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56FE7-2C0B-47FB-9EBF-713703F17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80EED-49CC-47F9-9FFA-376EDA381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88802-DD04-43EB-948A-979DB21B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A6081-5284-4D7F-AF64-2A6B9CB5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4F08F-0528-4EAA-B925-810C271D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30501-2EAF-4A43-8191-049C3B70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9815F-543D-43CC-BE5F-3415A16D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007F0-F980-441C-A111-3273FC49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9EAAD-74E9-4866-984D-8F3FDE70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AF683-9461-4DCF-A362-F423B665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19062-3A23-4228-B276-94D30028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7F606-C5DD-4B1B-89F4-DA469F7A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57B98-3DC6-422F-A284-B97E1BA64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17D63-79C8-4D3C-80FF-BCD65C6C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242CF-C999-4A1E-A0DE-B2A1A26D7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E8E6E-60A2-4EEC-BFC6-1079F9E58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428D8-BC42-488D-A938-02D9A762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18BCC-119A-4954-9BA5-0EAE33CA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71A8C-6E0C-41F0-840E-DF876FA2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76FC4-1935-47B6-AB44-EBEE0B51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70CAE-1A92-45B4-A2E9-4CC821BE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1DF63-636B-41BB-AD9A-C6BE86FE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61DFE-3B13-454F-BFF6-33A0CB6C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70114-AD37-4DA6-B68F-521F8DA0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6EB24-CC4E-42BD-83E4-3383F264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890D3-D8E7-4220-961B-B9656854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C55BD-B0E7-49B5-A37E-147C22A11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BACB1-632E-4636-9CD3-F220926AE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6C7B9-5367-43BA-9182-E2B0769C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A7392-A33B-4795-A2AD-83A6D006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B59D-69D1-4E71-81E0-2BCF8151F96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A1B2-A45B-421A-BA7A-E4803F70436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2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94BF-58A0-4FFC-BBCB-2B5EB70EB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7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7F90-B961-457A-B8D5-BD54F80A4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24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BEDF-BE73-436F-8C06-EE6E86DCED5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8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AD37-B645-4A7F-9897-FD75539B06F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3.jpeg"/><Relationship Id="rId17" Type="http://schemas.openxmlformats.org/officeDocument/2006/relationships/image" Target="../media/image15.jpeg"/><Relationship Id="rId18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image" Target="../media/image16.jpeg"/><Relationship Id="rId13" Type="http://schemas.openxmlformats.org/officeDocument/2006/relationships/image" Target="../media/image16.jpeg"/><Relationship Id="rId14" Type="http://schemas.openxmlformats.org/officeDocument/2006/relationships/image" Target="../media/image16.jpeg"/><Relationship Id="rId15" Type="http://schemas.openxmlformats.org/officeDocument/2006/relationships/image" Target="../media/image16.jpeg"/><Relationship Id="rId16" Type="http://schemas.openxmlformats.org/officeDocument/2006/relationships/image" Target="../media/image16.jpeg"/><Relationship Id="rId17" Type="http://schemas.openxmlformats.org/officeDocument/2006/relationships/image" Target="../media/image16.jpeg"/><Relationship Id="rId18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ef2ab"/>
                </a:solidFill>
                <a:latin typeface="Showcard Gothic"/>
              </a:rPr>
              <a:t>Adolescente Moda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3500280" y="2357280"/>
            <a:ext cx="2143440" cy="2143440"/>
            <a:chOff x="3500280" y="2357280"/>
            <a:chExt cx="2143440" cy="2143440"/>
          </a:xfrm>
        </p:grpSpPr>
        <p:sp>
          <p:nvSpPr>
            <p:cNvPr id="339" name=""/>
            <p:cNvSpPr txBox="1"/>
            <p:nvPr/>
          </p:nvSpPr>
          <p:spPr>
            <a:xfrm>
              <a:off x="3500280" y="2357280"/>
              <a:ext cx="2143440" cy="214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4000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 rot="20455200">
            <a:off x="533520" y="2743200"/>
            <a:ext cx="1914480" cy="239076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 rot="939600">
            <a:off x="6477120" y="1066680"/>
            <a:ext cx="1743120" cy="26193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838080" y="22860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304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ef2ab"/>
                </a:solidFill>
                <a:latin typeface="Tahoma"/>
              </a:rPr>
              <a:t>La Primave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rot="20263200">
            <a:off x="1219320" y="4952520"/>
            <a:ext cx="220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Jose lleva la </a:t>
            </a: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camisa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, los </a:t>
            </a: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pantalones cortos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y la </a:t>
            </a: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puls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20424000">
            <a:off x="3581280" y="4876920"/>
            <a:ext cx="243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878400">
            <a:off x="5733720" y="3706920"/>
            <a:ext cx="1752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Isabel lleva La </a:t>
            </a: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camisa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, la </a:t>
            </a: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ropa interior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, los </a:t>
            </a: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blue jeans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, la </a:t>
            </a: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pulsera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y la </a:t>
            </a: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cin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990720" y="1522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tretch/>
        </p:blipFill>
        <p:spPr>
          <a:xfrm>
            <a:off x="0" y="5931000"/>
            <a:ext cx="9144000" cy="9270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tretch/>
        </p:blipFill>
        <p:spPr>
          <a:xfrm rot="5400000">
            <a:off x="5708160" y="2508120"/>
            <a:ext cx="5943600" cy="9270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7"/>
          <a:stretch/>
        </p:blipFill>
        <p:spPr>
          <a:xfrm>
            <a:off x="0" y="1676520"/>
            <a:ext cx="8305920" cy="92700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8"/>
          <a:stretch/>
        </p:blipFill>
        <p:spPr>
          <a:xfrm rot="5400000">
            <a:off x="-2013120" y="2927160"/>
            <a:ext cx="4952880" cy="9270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9"/>
          <a:stretch/>
        </p:blipFill>
        <p:spPr>
          <a:xfrm>
            <a:off x="914400" y="914400"/>
            <a:ext cx="7315200" cy="9270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8229600" cy="9270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11"/>
          <a:stretch/>
        </p:blipFill>
        <p:spPr>
          <a:xfrm>
            <a:off x="914400" y="4952880"/>
            <a:ext cx="7315200" cy="9273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12"/>
          <a:stretch/>
        </p:blipFill>
        <p:spPr>
          <a:xfrm>
            <a:off x="762120" y="3962520"/>
            <a:ext cx="7848360" cy="9270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13"/>
          <a:stretch/>
        </p:blipFill>
        <p:spPr>
          <a:xfrm>
            <a:off x="762120" y="3048120"/>
            <a:ext cx="7467480" cy="9270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14"/>
          <a:stretch/>
        </p:blipFill>
        <p:spPr>
          <a:xfrm>
            <a:off x="457200" y="1981080"/>
            <a:ext cx="8153280" cy="92736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l Veran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rcRect l="9846" t="0" r="9846" b="0"/>
          <a:stretch/>
        </p:blipFill>
        <p:spPr>
          <a:xfrm>
            <a:off x="993600" y="1905120"/>
            <a:ext cx="2508480" cy="3257280"/>
          </a:xfrm>
          <a:prstGeom prst="rect">
            <a:avLst/>
          </a:prstGeom>
          <a:ln w="57240">
            <a:solidFill>
              <a:srgbClr val="aa8456"/>
            </a:solidFill>
            <a:miter/>
          </a:ln>
        </p:spPr>
      </p:pic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 rot="1027800">
            <a:off x="457200" y="220968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1295280" y="22860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Monotype Corsiva"/>
              </a:rPr>
              <a:t>El Veran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14400" y="76212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Natasha lleva la vestido y la puls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 rot="20445000">
            <a:off x="4952880" y="3047760"/>
            <a:ext cx="2141640" cy="30240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6629400" y="19051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Veronica lleva la camisa, los blue jeans, la pulsera y la scarfa de s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5"/>
          <a:stretch/>
        </p:blipFill>
        <p:spPr>
          <a:xfrm>
            <a:off x="3276720" y="4800600"/>
            <a:ext cx="1520640" cy="190512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6"/>
          <a:stretch/>
        </p:blipFill>
        <p:spPr>
          <a:xfrm>
            <a:off x="6324480" y="228600"/>
            <a:ext cx="1811520" cy="154764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1828800" cy="9907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2133720" y="21337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304920" y="1600200"/>
            <a:ext cx="1790640" cy="27716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2057400" y="3808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      </a:t>
            </a:r>
            <a:r>
              <a:rPr b="0" lang="en-US" sz="3600" spc="-1" strike="noStrike">
                <a:solidFill>
                  <a:srgbClr val="660033"/>
                </a:solidFill>
                <a:latin typeface="Tahoma"/>
              </a:rPr>
              <a:t>El Oto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209680" y="205740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Julia lleva la camisa, el vestido, los pantalones, los zapatos y la cinta.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4"/>
          <a:stretch/>
        </p:blipFill>
        <p:spPr>
          <a:xfrm>
            <a:off x="0" y="4343400"/>
            <a:ext cx="2286000" cy="25146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5"/>
          <a:stretch/>
        </p:blipFill>
        <p:spPr>
          <a:xfrm>
            <a:off x="2209680" y="4494240"/>
            <a:ext cx="2286000" cy="236376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6"/>
          <a:stretch/>
        </p:blipFill>
        <p:spPr>
          <a:xfrm>
            <a:off x="4495680" y="4494240"/>
            <a:ext cx="2286000" cy="236376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7"/>
          <a:stretch/>
        </p:blipFill>
        <p:spPr>
          <a:xfrm>
            <a:off x="6705720" y="4494240"/>
            <a:ext cx="2438280" cy="236376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8"/>
          <a:stretch/>
        </p:blipFill>
        <p:spPr>
          <a:xfrm>
            <a:off x="6858000" y="2133720"/>
            <a:ext cx="2286000" cy="236376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9"/>
          <a:stretch/>
        </p:blipFill>
        <p:spPr>
          <a:xfrm>
            <a:off x="4572000" y="2133720"/>
            <a:ext cx="2286000" cy="236376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10"/>
          <a:stretch/>
        </p:blipFill>
        <p:spPr>
          <a:xfrm>
            <a:off x="6858000" y="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11"/>
          <a:stretch/>
        </p:blipFill>
        <p:spPr>
          <a:xfrm>
            <a:off x="5334120" y="0"/>
            <a:ext cx="1600200" cy="213372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12"/>
          <a:stretch/>
        </p:blipFill>
        <p:spPr>
          <a:xfrm>
            <a:off x="2133720" y="990720"/>
            <a:ext cx="1676160" cy="114300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13"/>
          <a:stretch/>
        </p:blipFill>
        <p:spPr>
          <a:xfrm>
            <a:off x="3809880" y="99072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15"/>
          <a:stretch/>
        </p:blipFill>
        <p:spPr>
          <a:xfrm>
            <a:off x="0" y="1600200"/>
            <a:ext cx="304920" cy="289728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16"/>
          <a:stretch/>
        </p:blipFill>
        <p:spPr>
          <a:xfrm>
            <a:off x="2133720" y="0"/>
            <a:ext cx="1371600" cy="16002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17"/>
          <a:stretch/>
        </p:blipFill>
        <p:spPr>
          <a:xfrm>
            <a:off x="4648320" y="1600200"/>
            <a:ext cx="2286000" cy="327672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7010280" y="190512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Adriana lleva la camisa, los blue jeans y la ropa interior.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7010280" y="1905120"/>
            <a:ext cx="2133720" cy="236196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3124080" y="1981080"/>
            <a:ext cx="2057400" cy="236232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3"/>
          <a:stretch/>
        </p:blipFill>
        <p:spPr>
          <a:xfrm>
            <a:off x="4343400" y="0"/>
            <a:ext cx="2438280" cy="198108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4"/>
          <a:stretch/>
        </p:blipFill>
        <p:spPr>
          <a:xfrm>
            <a:off x="1981080" y="0"/>
            <a:ext cx="2362320" cy="198108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Joanna MT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Joanna MT"/>
              </a:rPr>
              <a:t>   </a:t>
            </a:r>
            <a:r>
              <a:rPr b="1" lang="en-US" sz="4400" spc="-1" strike="noStrike">
                <a:solidFill>
                  <a:srgbClr val="ffffb7"/>
                </a:solidFill>
                <a:latin typeface="Papyrus"/>
              </a:rPr>
              <a:t>El  Inviern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5"/>
          <a:stretch/>
        </p:blipFill>
        <p:spPr>
          <a:xfrm>
            <a:off x="5257800" y="2057400"/>
            <a:ext cx="1665360" cy="23605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397" name="" descr=""/>
          <p:cNvPicPr/>
          <p:nvPr/>
        </p:nvPicPr>
        <p:blipFill>
          <a:blip r:embed="rId6"/>
          <a:stretch/>
        </p:blipFill>
        <p:spPr>
          <a:xfrm>
            <a:off x="1371600" y="2057400"/>
            <a:ext cx="1674720" cy="23716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398" name=""/>
          <p:cNvSpPr/>
          <p:nvPr/>
        </p:nvSpPr>
        <p:spPr>
          <a:xfrm>
            <a:off x="3124080" y="2209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Maria lleva la camisa, los blue jeans, la chaqueta y el sombrer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010280" y="213372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Daniela lleva los blue jeans, el abrigo y la bufan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7"/>
          <a:stretch/>
        </p:blipFill>
        <p:spPr>
          <a:xfrm>
            <a:off x="0" y="44956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8"/>
          <a:stretch/>
        </p:blipFill>
        <p:spPr>
          <a:xfrm>
            <a:off x="2362320" y="449568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9"/>
          <a:stretch/>
        </p:blipFill>
        <p:spPr>
          <a:xfrm>
            <a:off x="4724280" y="44956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10"/>
          <a:stretch/>
        </p:blipFill>
        <p:spPr>
          <a:xfrm>
            <a:off x="7086600" y="4495680"/>
            <a:ext cx="2057400" cy="23623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12"/>
          <a:stretch/>
        </p:blipFill>
        <p:spPr>
          <a:xfrm>
            <a:off x="0" y="1981080"/>
            <a:ext cx="1295280" cy="251460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13"/>
          <a:stretch/>
        </p:blipFill>
        <p:spPr>
          <a:xfrm>
            <a:off x="6781680" y="0"/>
            <a:ext cx="2362320" cy="19810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14"/>
          <a:stretch/>
        </p:blipFill>
        <p:spPr>
          <a:xfrm>
            <a:off x="7010280" y="3276720"/>
            <a:ext cx="2133720" cy="236196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15"/>
          <a:stretch/>
        </p:blipFill>
        <p:spPr>
          <a:xfrm>
            <a:off x="3124080" y="3429000"/>
            <a:ext cx="2057400" cy="236232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16"/>
          <a:stretch/>
        </p:blipFill>
        <p:spPr>
          <a:xfrm>
            <a:off x="8839080" y="1828800"/>
            <a:ext cx="304920" cy="99072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17"/>
          <a:stretch/>
        </p:blipFill>
        <p:spPr>
          <a:xfrm>
            <a:off x="5943600" y="4876920"/>
            <a:ext cx="2362320" cy="1981080"/>
          </a:xfrm>
          <a:prstGeom prst="rect">
            <a:avLst/>
          </a:prstGeom>
          <a:ln w="0">
            <a:noFill/>
          </a:ln>
        </p:spPr>
      </p:pic>
    </p:spTree>
  </p:cSld>
  <p:transition advTm="9000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4" descr="C:\Users\Family\AppData\Local\Microsoft\Windows\Temporary Internet Files\Content.IE5\13V6R8IG\MPj04330510000[1].jpg"/>
          <p:cNvPicPr/>
          <p:nvPr/>
        </p:nvPicPr>
        <p:blipFill>
          <a:blip r:embed="rId1"/>
          <a:stretch/>
        </p:blipFill>
        <p:spPr>
          <a:xfrm>
            <a:off x="0" y="-96840"/>
            <a:ext cx="9296280" cy="695484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Accesori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6553080" y="2209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3"/>
          <a:stretch/>
        </p:blipFill>
        <p:spPr>
          <a:xfrm>
            <a:off x="3124080" y="3198960"/>
            <a:ext cx="1676520" cy="126036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4"/>
          <a:stretch/>
        </p:blipFill>
        <p:spPr>
          <a:xfrm>
            <a:off x="304920" y="23623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5"/>
          <a:stretch/>
        </p:blipFill>
        <p:spPr>
          <a:xfrm>
            <a:off x="304920" y="2286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6"/>
          <a:stretch/>
        </p:blipFill>
        <p:spPr>
          <a:xfrm>
            <a:off x="6324480" y="228600"/>
            <a:ext cx="1978200" cy="126216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7"/>
          <a:stretch/>
        </p:blipFill>
        <p:spPr>
          <a:xfrm>
            <a:off x="3657600" y="1143000"/>
            <a:ext cx="1262160" cy="154296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152280" y="1752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La pend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581280" y="26668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El bol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248520" y="14479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La pulsera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28600" y="3809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El anil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8120" y="4572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El sombr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477120" y="36576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Los zapa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8"/>
          <a:stretch/>
        </p:blipFill>
        <p:spPr>
          <a:xfrm>
            <a:off x="152280" y="4419720"/>
            <a:ext cx="2610000" cy="17524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152280" y="6172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Los gafas de s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9"/>
          <a:stretch/>
        </p:blipFill>
        <p:spPr>
          <a:xfrm>
            <a:off x="5029200" y="4495680"/>
            <a:ext cx="2057400" cy="15462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4952880" y="6095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Los gaf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Showcard Gothic"/>
              </a:rPr>
              <a:t>El Vestid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2176560" cy="274320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3505320" y="1447920"/>
            <a:ext cx="2085840" cy="259056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6705720" y="457200"/>
            <a:ext cx="1944720" cy="266688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4"/>
          <a:stretch/>
        </p:blipFill>
        <p:spPr>
          <a:xfrm>
            <a:off x="6553080" y="3429000"/>
            <a:ext cx="2219400" cy="308628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5"/>
          <a:stretch/>
        </p:blipFill>
        <p:spPr>
          <a:xfrm>
            <a:off x="3505320" y="4343400"/>
            <a:ext cx="2133360" cy="214308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6"/>
          <a:stretch/>
        </p:blipFill>
        <p:spPr>
          <a:xfrm>
            <a:off x="380880" y="3505320"/>
            <a:ext cx="1791000" cy="2971800"/>
          </a:xfrm>
          <a:prstGeom prst="rect">
            <a:avLst/>
          </a:prstGeom>
          <a:ln w="0">
            <a:noFill/>
          </a:ln>
        </p:spPr>
      </p:pic>
    </p:spTree>
  </p:cSld>
  <p:transition advTm="9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8:01:42Z</dcterms:created>
  <dc:creator>kaneabi</dc:creator>
  <dc:description/>
  <dc:language>en-US</dc:language>
  <cp:lastModifiedBy>kaneabi</cp:lastModifiedBy>
  <dcterms:modified xsi:type="dcterms:W3CDTF">2011-12-20T22:42:12Z</dcterms:modified>
  <cp:revision>92</cp:revision>
  <dc:subject/>
  <dc:title>Mostrar de Moda</dc:title>
</cp:coreProperties>
</file>